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615-7E51-4322-8928-852B9CF0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9A5-4D58-410E-B737-6E1D9444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902-D1E6-44E7-8671-E4857329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975-979C-4C78-A21B-C4691173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E940-9D54-4F1C-B0F7-293F66B8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2830-A5DA-4AA1-9AB0-42EAF2F0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80BA-4A31-4E3E-80DA-7DE3F7CC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37DD-78DC-4D92-ACB8-1E6FF0D9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6FFB-DF07-4AA5-ACF8-BFFC101C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ADEF-7584-4F3B-A34E-35DDD986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F8E6-EAA2-4778-9DF6-07E6838D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70B-FB39-4FCD-971B-EC80EE79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34FF-433D-4F85-B2F9-6B316D27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C50E-F1D9-4DA7-90BE-8E66F3E5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1D39-4DF7-433A-9410-A012C4DA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120C-8003-457E-A0DB-F6F58DD8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9DA5-5062-44F5-9C37-77B68EC7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DA9-E93C-4240-B5F4-81D0FC64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7AE-22E9-4582-9CE4-8E7BA25F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8FC-FF6B-44A9-BA6E-EB54F1FB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EEE-A690-4886-9F5F-2BE41D68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D3A-8332-4FBE-A64C-B4DF80AA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DCE-4675-4EF5-B126-5A81A503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C23-B9B5-4810-ACD6-B0715C08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C861-9558-4356-AF16-741AE7CC4FFE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809C-CEA8-4741-B1F7-7E73CE480712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2666880"/>
            <a:ext cx="7543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Garamond"/>
              </a:rPr>
              <a:t>Inventory is often referred to as the graveyard of business because over investment in stock is a frequent cause of business fail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80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STOCK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14400" y="1905120"/>
            <a:ext cx="72388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the typical ways of keeping a paper based system up to date involve the use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ca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cards are used as a means of keeping account of the amount of goods you have p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66996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ff"/>
                </a:solidFill>
                <a:latin typeface="Arial"/>
              </a:rPr>
              <a:t>PAPER BASED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425760" y="4005360"/>
            <a:ext cx="19083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2120" y="2139840"/>
            <a:ext cx="76197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ck ca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use minimum/maximum stock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ck cards are used to monitor the amount of raw materials that are 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ing this system, you need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taken for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ility of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e of the stock i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66996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STOCK C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159520" cy="4317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219320" y="6699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STOCK CONTROL SH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905120"/>
            <a:ext cx="79246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Requisition books are used to request an order to be raised for materials. A duplicate of the requisition is then forwarded to the purchasing depar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This system works well if the employees are vigilant toward maintaining stock.</a:t>
            </a:r>
            <a:r>
              <a:rPr b="0" lang="en-GB" sz="2400" spc="-1" strike="noStrike">
                <a:solidFill>
                  <a:srgbClr val="000000"/>
                </a:solidFill>
                <a:latin typeface="A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aramond"/>
              </a:rPr>
              <a:t>A requisition is </a:t>
            </a:r>
            <a:r>
              <a:rPr b="1" lang="en-US" sz="3600" spc="-1" strike="noStrike">
                <a:solidFill>
                  <a:srgbClr val="ff0000"/>
                </a:solidFill>
                <a:latin typeface="AGaramond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Garamond"/>
              </a:rPr>
              <a:t> an order fo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14400" y="701640"/>
            <a:ext cx="546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Trebuchet MS"/>
              </a:rPr>
              <a:t>REQUISITION BOO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90720" y="2000160"/>
            <a:ext cx="731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dockets are used to account for and reco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ward g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aterials coming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ward good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duct go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86920" y="685800"/>
            <a:ext cx="50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Trebuchet MS"/>
              </a:rPr>
              <a:t>DELIVERY DOCK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879200" y="473040"/>
            <a:ext cx="510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Trebuchet MS"/>
              </a:rPr>
              <a:t>CUSTOMER 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1941480"/>
            <a:ext cx="86104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ders from customers are receive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raw materials nee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ra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using this method, </a:t>
            </a:r>
            <a:r>
              <a:rPr b="0" lang="en-US" sz="2400" spc="-1" strike="noStrike">
                <a:solidFill>
                  <a:srgbClr val="6666ff"/>
                </a:solidFill>
                <a:latin typeface="Times New Roman"/>
              </a:rPr>
              <a:t>consumabl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not indic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advant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cannot start on the customer order until the stock arr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vant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you don’t spend a lot of money on stock with the risk that you may not use it. You can use customer depos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eria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WHICH SYSTEM DO YOU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1866960"/>
            <a:ext cx="7848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s help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iminate extra paper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alise stock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orders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s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er stock data ma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ering data with bar code 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anning documents, such as inv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520" y="609480"/>
            <a:ext cx="9096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ff"/>
                </a:solidFill>
                <a:latin typeface="Arial"/>
              </a:rPr>
              <a:t>COMPUTER GENERATED REC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149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barcode" descr=""/>
          <p:cNvPicPr/>
          <p:nvPr/>
        </p:nvPicPr>
        <p:blipFill>
          <a:blip r:embed="rId1"/>
          <a:stretch/>
        </p:blipFill>
        <p:spPr>
          <a:xfrm>
            <a:off x="6095880" y="5591160"/>
            <a:ext cx="1514520" cy="657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797360" y="1789200"/>
            <a:ext cx="41180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352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200016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of the following information can be produced by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vo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lier l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60" y="309600"/>
            <a:ext cx="908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ff"/>
                </a:solidFill>
                <a:latin typeface="Arial"/>
              </a:rPr>
              <a:t>COMPUTER GENERATED REC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419720" y="2475000"/>
            <a:ext cx="41176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838080" y="53352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DATA E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957320"/>
            <a:ext cx="73915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mputer application can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ck to see if the stock is on 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duce an order for more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ce an interim hold on the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 a job c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 working draw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 delivery dock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v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8224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15000" y="2955960"/>
            <a:ext cx="2822400" cy="23781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80880" y="30492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BARCODE SYSTEMS</a:t>
            </a:r>
            <a:r>
              <a:rPr b="1" lang="en-GB" sz="40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2216160"/>
            <a:ext cx="53341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system can be used for all sorts of stock items, suc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xes of 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s of ti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ainers of adhes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xes of fittings and access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1986120"/>
            <a:ext cx="6705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Many business costs, suc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A storeman’s 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Storag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Insurance of the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Interest on borrowed mon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re directly related to investment in invent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80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STOCK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30492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BARCODE SYSTEMS</a:t>
            </a:r>
            <a:r>
              <a:rPr b="1" lang="en-GB" sz="40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715000" y="3260880"/>
            <a:ext cx="2822400" cy="2377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3520" y="1927080"/>
            <a:ext cx="49528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codes are attached to all goods or groups of goods and can contain a whole range of information, suc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lie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e of expiry, if applic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30492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ff"/>
                </a:solidFill>
                <a:latin typeface="Arial"/>
              </a:rPr>
              <a:t>SCAN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822400" cy="23781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533520" y="1909800"/>
            <a:ext cx="48006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canner is a piece of equip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cts like a photocopier and c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used to copy a paper invoice or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fer this copy to the computer for storage and easy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text recognition, so the information can be interpreted and processed by the computer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280" y="1346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STOCK CONTROL WITHOUT RECORD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31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ailed records of stock movements and levels may not always be necessar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small busines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operato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oks after all stock contro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busines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efabricated or made-to-order produ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BIN SYSTEM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Bin systems can replace formal stock control record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002120" cy="2143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648320" y="3343320"/>
            <a:ext cx="4002120" cy="21430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0492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bin, 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 b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ree b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71160" y="60732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IMPREST SYSTEMS</a:t>
            </a:r>
            <a:r>
              <a:rPr b="1" lang="en-GB" sz="40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imprest system, an upper limit is set for inventory items in 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rders are placed to bring the inventory back up to this level. This level equals the quantity necessary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 supplies to cover delivery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tain supplies to cover the review peri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607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STOCKTAKING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ocktaking is the process of counting the amount of materials and goods the company has on hand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ysical stocktakes are important so you can identif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crepancies between what is ordered and what is recei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crepancies between prices paid and value recei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tterns of us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STOCKT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24732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cktakes are usually held at least twice a ye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points to remember when stock tak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tock recording sheets and stickers so things aren’t counted tw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Electronic recording devices make it much fa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4920" y="990720"/>
            <a:ext cx="86104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efficient the control of stock is, the less will be wasted or stored unnecessar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od stock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s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s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kes sure the workplace is more 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can use paper based and computer based stock control method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rd the movement of stock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tain stock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just levels to meet dem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59040" y="312840"/>
            <a:ext cx="27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ff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76320" y="349200"/>
            <a:ext cx="8991360" cy="6433920"/>
            <a:chOff x="76320" y="349200"/>
            <a:chExt cx="8991360" cy="6433920"/>
          </a:xfrm>
        </p:grpSpPr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1639800" y="488880"/>
              <a:ext cx="6056280" cy="629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152280" y="349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Your companies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15200" y="1523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Order No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3920" y="2209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Supplier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8520" y="23004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Delivery addres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20" y="27576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Date of order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0120" y="34434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Order mak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72400" y="3062160"/>
              <a:ext cx="83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2012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Courier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4380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COD/30 D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520" y="31240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Quant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8600" y="351936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Litre / she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8600" y="390060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C grade 12mm 7 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2400x 1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9480" y="479916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Special Instru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96080" y="5638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Costs and char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" y="61405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Authorising signature and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62120" y="2209680"/>
            <a:ext cx="7543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it is important to control stock and inventory so that ther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enough to keep work flowing effici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ot too much so that money spent on the stock lies idle while it is not used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380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STOCK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21351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inventor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simply a list of all the goods purchased and used in the manufacturing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4086360"/>
            <a:ext cx="6782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w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ished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80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STOCK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43320"/>
            <a:ext cx="7162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ck control is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e the costs of running the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e excess stock and wa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ke sure there are enough goods to meet the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eed up deliveries to custo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53352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ff"/>
                </a:solidFill>
                <a:latin typeface="Arial"/>
              </a:rPr>
              <a:t>STOCK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90720" y="838080"/>
            <a:ext cx="73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Trebuchet MS"/>
              </a:rPr>
              <a:t>WHAT ITEMS ARE RECORD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905120"/>
            <a:ext cx="75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quipment, such as static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ols, such as hammers and span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ckaging, such as bubble wrap or bo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e parts, such as extra cutterblades fo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ssories, such as door hand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consumables, such as nails and scre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13372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chart" descr=""/>
          <p:cNvPicPr/>
          <p:nvPr/>
        </p:nvPicPr>
        <p:blipFill>
          <a:blip r:embed="rId1"/>
          <a:stretch/>
        </p:blipFill>
        <p:spPr>
          <a:xfrm>
            <a:off x="533520" y="2162160"/>
            <a:ext cx="8126280" cy="4222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6320" y="304920"/>
            <a:ext cx="8915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A TYPICAL PRODUCTION PROC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38080" y="44136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Trebuchet MS"/>
              </a:rPr>
              <a:t>HOW IS STOCK CONTROLL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924200"/>
            <a:ext cx="7467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s can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based, such as hand written stock car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 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 gene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600360"/>
            <a:ext cx="7620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ck control records should cont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description of the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ails of where the goods are stored or 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mount of goods currently h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ails about the movement of the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066680" y="2062080"/>
            <a:ext cx="4724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Used to control stock 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Purchase requis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Purchase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Delivery d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Inv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6094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DOCUMENTS AND 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23:31:13Z</dcterms:created>
  <dc:creator>GREG CHEETHAM</dc:creator>
  <dc:description/>
  <dc:language>en-US</dc:language>
  <cp:lastModifiedBy>gcheetham</cp:lastModifiedBy>
  <dcterms:modified xsi:type="dcterms:W3CDTF">2008-08-17T23:10:41Z</dcterms:modified>
  <cp:revision>13</cp:revision>
  <dc:subject/>
  <dc:title>PowerPoint Presentation</dc:title>
</cp:coreProperties>
</file>